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FF1-7BAE-4C10-A12C-3A84BDC1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C93-E9C8-4F8E-B080-5778FC7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7E0-321A-434A-9907-F5C420B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458-8D69-4CEA-95BA-2902A35A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58C-C0F1-4804-836C-A1764BA7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97DC-1E7C-4A85-8E89-D480C6A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B029-C8D3-48A4-AF07-46A875ED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7E8-324A-482C-B70D-83B694A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A69-8775-48C2-8D33-73BA344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157-1560-425E-9D05-BFD4CAEF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34F6-F841-4924-9507-F6BAB00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C31-AAA6-4A3F-9D76-6D0BA229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E07-1DFE-42F0-B875-CCFC47C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348-EEC0-4A82-86F7-5DCE778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731-684B-42E6-81E1-21E3649F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2C03-B3AE-4A58-8D9E-A3D54BDA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468-ED1B-4BA9-AE26-57CA4B31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84F-4143-4E9E-9E07-8D81F424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3FA-5F2E-4E45-AF68-1D34970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A05-1A1F-48AA-94D2-FEB89186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ABE-50B0-4425-8593-FBD4641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D3A-FF20-4E07-8E2F-F95E2B3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C39-8DA3-414E-B4A5-B734800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F3E-C76B-43B8-BAC1-218AB2A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DC0-2250-4FA5-A4E3-F52A2A7D5EC9}" type="slidenum">
              <a:rPr b="0" lang="en-US" sz="14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ED2B-ED46-47C7-BC47-F5C8BF5F6BA1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ebscohost.com/login.aspx?direct=true&amp;db=ehh&amp;AN=45073947&amp;site=ehost-live" TargetMode="External"/><Relationship Id="rId2" Type="http://schemas.openxmlformats.org/officeDocument/2006/relationships/hyperlink" Target="http://search.ebscohost.com/login.aspx?direct=true&amp;db=ehh&amp;AN=45073947&amp;site=ehost-live" TargetMode="External"/><Relationship Id="rId3" Type="http://schemas.openxmlformats.org/officeDocument/2006/relationships/hyperlink" Target="http://search.ebscohost.com/login.aspx?direct=true&amp;db=ehh&amp;AN=45073947&amp;site=ehost-live" TargetMode="External"/><Relationship Id="rId4" Type="http://schemas.openxmlformats.org/officeDocument/2006/relationships/hyperlink" Target="http://search.ebscohost.com/login.aspx?direct=true&amp;db=ehh&amp;AN=45073947&amp;site=ehost-live" TargetMode="External"/><Relationship Id="rId5" Type="http://schemas.openxmlformats.org/officeDocument/2006/relationships/hyperlink" Target="http://search.ebscohost.com/login.aspx?direct=true&amp;db=ehh&amp;AN=45073947&amp;site=ehost-live" TargetMode="External"/><Relationship Id="rId6" Type="http://schemas.openxmlformats.org/officeDocument/2006/relationships/hyperlink" Target="http://search.ebscohost.com/login.aspx?direct=true&amp;db=ehh&amp;AN=45073947&amp;site=ehost-live" TargetMode="External"/><Relationship Id="rId7" Type="http://schemas.openxmlformats.org/officeDocument/2006/relationships/hyperlink" Target="http://search.ebscohost.com/login.aspx?direct=true&amp;db=ehh&amp;AN=45073947&amp;site=ehost-live" TargetMode="External"/><Relationship Id="rId8" Type="http://schemas.openxmlformats.org/officeDocument/2006/relationships/hyperlink" Target="http://search.ebscohost.com/login.aspx?direct=true&amp;db=ehh&amp;AN=45073947&amp;site=ehost-live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Class Size and Its Effect on Academic Achievement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212164"/>
                </a:solidFill>
                <a:latin typeface="Book Antiqua"/>
              </a:rPr>
              <a:t>Maria O’Regan</a:t>
            </a:r>
            <a:br>
              <a:rPr sz="2400"/>
            </a:br>
            <a:r>
              <a:rPr b="1" lang="en-US" sz="2400" spc="-1" strike="noStrike">
                <a:solidFill>
                  <a:srgbClr val="212164"/>
                </a:solidFill>
                <a:latin typeface="Book Antiqua"/>
              </a:rPr>
              <a:t>Edu 7201, Fall 2011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Table of Conten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Statement of Probl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Review of Lit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Pros &amp; Cons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 </a:t>
            </a: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Solution to over-crowding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1216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12164"/>
                </a:solidFill>
                <a:latin typeface="Book Antiqua"/>
              </a:rPr>
              <a:t>Theorists</a:t>
            </a:r>
            <a:endParaRPr b="0" lang="en-US" sz="25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Statement of Hypothesi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Referenc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Statement of the Probl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773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The population of students in one classroom with one teacher is at an all time high. With overcrowded classrooms and only one teacher in the room, the ability for a teacher to individually help each student or a percentage of the class is difficult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latchford, Bassett, Goldstein, &amp; Martin, 2003). 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It has been said that "Class size is one of the variables in American K-12 education that is thought to influence student learning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orland, Howsen, &amp; Trawick, 2005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view of Literature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Book Antiqua"/>
              </a:rPr>
              <a:t>Pros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tudents benefit more in later grades from being in small classes in early grades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Konstantopoulos &amp; Chung, 2009) 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maller class size allows for better teacher performance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Chen &amp; Chen, 2009).</a:t>
            </a: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Small classes allow for less disruption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Batchford,Baines, Kutnick &amp; Martin, 2001).</a:t>
            </a: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0240" y="12949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12164"/>
                </a:solidFill>
                <a:uFillTx/>
                <a:latin typeface="Book Antiqua"/>
              </a:rPr>
              <a:t>Cons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Less daily social interaction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Pedder, 2006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More costly to have small classes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view of Litera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olution to over crowding classroom: co-teaching, aide, assistant teacher (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Thomas, 1997).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Careful analysis of the STAR (Student/Teacher Achievement Ratio) data has made it clear that an aide in the classroom has no positive impact on student achievement or behavior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mall classes of 13 to 17 students had a positive impact on student achievement (relative to regular-sized classes of 22 to 26 students)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Small classes led to statistically significant improvements in reading and mathematics, and benefits were greatest for students who started in small classes early(full-day kindergarten or first grade) </a:t>
            </a:r>
            <a:r>
              <a:rPr b="0" lang="en-US" sz="1600" spc="-1" strike="noStrike">
                <a:solidFill>
                  <a:srgbClr val="212164"/>
                </a:solidFill>
                <a:latin typeface="Book Antiqua"/>
              </a:rPr>
              <a:t>(Finn &amp; Achilles, 2003).</a:t>
            </a:r>
            <a:endParaRPr b="0" lang="en-US" sz="16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12164"/>
                </a:solidFill>
                <a:latin typeface="Book Antiqua"/>
              </a:rPr>
              <a:t>Review of Literature </a:t>
            </a:r>
            <a:endParaRPr b="1" lang="en-US" sz="4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12164"/>
                </a:solidFill>
                <a:uFillTx/>
                <a:latin typeface="Book Antiqua"/>
              </a:rPr>
              <a:t>Theorist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Edward Lazear argues that students who attend a smaller class learn more because they experience fewer student disruptions during class time, on average 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(Krueger &amp; Hanushek, 2000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Book Antiqua"/>
              </a:rPr>
              <a:t>Vygotsky argued that increased social interaction is directly related to increased cognitive development </a:t>
            </a:r>
            <a:r>
              <a:rPr b="0" lang="en-US" sz="1800" spc="-1" strike="noStrike">
                <a:solidFill>
                  <a:srgbClr val="212164"/>
                </a:solidFill>
                <a:latin typeface="Book Antiqua"/>
              </a:rPr>
              <a:t>(McLeod,2007).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Hypothesis(ses)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HR 1: To teach one unit on math content and one unit on language arts by content one teacher to seven Pre-Kindergarten students from PS X in Brooklyn, NY over a six week period, three times a week for 45 minute sessions, will increase their overall content knowledge in math and language arts as measured by a math and language arts tes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Book Antiqua"/>
              </a:rPr>
              <a:t>HR2: To teach one unit on math content and one unit on language arts content by two teachers to twenty-one Pre-Kindergarten students from PS X in Brooklyn, NY over a six week period, three times a week for 45 minute sessions, will decrease their overall content knowledge in math and language arts as measured by a math and language arts test.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ferences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Akyüz, G., &amp; Berbero</a:t>
            </a:r>
            <a:r>
              <a:rPr b="0" lang="en-US" sz="1200" spc="-1" strike="noStrike">
                <a:solidFill>
                  <a:srgbClr val="212164"/>
                </a:solidFill>
                <a:latin typeface="Lucida Grande"/>
              </a:rPr>
              <a:t>ğ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lu, G. (2010). Teacher and classroom characteristics and their relations to mathematics achievement of the students in the TIMSS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New Horizons in Education, 58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77-95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51301327&amp;site=ehost-live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atchford, P., Baines, E., Kutnick, P., &amp; Martin, C. (2001). Classroom contexts: Connections between class size and within class grouping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British Journal of Educational Psychology, 71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83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7258387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latchford, P., Bassett, P., Goldstein, H., &amp; Martin, C. (2003). Are class size differences related to pupils' educational progress and classroom processes? findings from the institute of education class size study of children aged 5-7 years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British Educational Research Journal, 29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5), 709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11184894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Borland, M. V., Howsen, R. M., &amp; Trawick, M. W. (2005). An investigation of the effect of class size on student academic achievement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Education Economics, 13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73-83. doi:10.1080/0964529042000325216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Chen, W., &amp; Chen, W. (2010). Surprises learned from course evaluations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Research in Higher Education Journal, 91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9). Retrieved fromWei-Kian, C., &amp; Won-Sun, C. (2010). Surprises learned from course evaluations. Research in Higher Education Journal, 91-9. Retrieved from http://web.ebscohost.com.ez-proxy.brooklyn.cuny.edu:2048/ehost/detail?vid=7&amp;hid=24&amp;sid=6df39f1e-173f-464c-b34a-fc6da9d5ce63%40sessionmgr14&amp;bdata=JnNpdGU9ZWhvc3QtbGl2ZQ%3d%3d#db=ehh&amp;AN=57463899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Finn,  J., &amp; Achilles, C. (2003). Class Size: Counting Students Can Count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American Education Research Asssociation, 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1-4. Retrieved from www.aera.net/uploadedFiles/Journals_and...Points/RP_Fall03.pdf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569520"/>
            <a:ext cx="7344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Book Antiqua"/>
              </a:rPr>
              <a:t>Referen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Funkhouser, E. (2009). The effect of kindergarten classroom size reduction on second grade student achievement: Evidence from california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Economics of Education Review, 28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3), 403-414. doi:10.1016/j.econedurev.2007.06.005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Konstantopoulos, S., &amp; Chung, V. (2009). What are the long-term effects of small classes on the achievement gap? evidence from the lasting benefits study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American Journal of Education, 116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1), 125-154. Retrieved from 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1"/>
              </a:rPr>
              <a:t>http://search.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2"/>
              </a:rPr>
              <a:t>ebscohost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3"/>
              </a:rPr>
              <a:t>.com/login.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4"/>
              </a:rPr>
              <a:t>aspx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5"/>
              </a:rPr>
              <a:t>?direct=true&amp;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6"/>
              </a:rPr>
              <a:t>db=ehh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7"/>
              </a:rPr>
              <a:t>&amp;AN=45073947&amp;</a:t>
            </a:r>
            <a:r>
              <a:rPr b="0" lang="en-US" sz="1200" spc="-1" strike="noStrike" u="sng">
                <a:solidFill>
                  <a:srgbClr val="995421"/>
                </a:solidFill>
                <a:uFillTx/>
                <a:latin typeface="Book Antiqua"/>
                <a:hlinkClick r:id="rId8"/>
              </a:rPr>
              <a:t>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Krueger, A. &amp; Hanushek, E. (2000). THE CLASS SIZE POLICY DEBATE 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Economic Policy Institut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McLeod, S.(2007). Vygotsky. Psychology Academic Articles for Students, Simply Psychology. Retrieved from http://www.simplypsychology.org/vygotsky.html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Pedder, D. (2006). Are small classes better? understanding relationships between class size, classroom processes and pupils' learning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Oxford Review of Education, 32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13-234. doi:10.1080/03054980600645396</a:t>
            </a:r>
            <a:r>
              <a:rPr b="0" lang="en-US" sz="2800" spc="-1" strike="noStrike">
                <a:solidFill>
                  <a:srgbClr val="212164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Sohn, K. (2010). A skeptic's guide to project STAR.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 KEDI Journal of Educational Policy, 7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2), 257-272. Retrieved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</a:rPr>
              <a:t>http://search.ebscohost.com/login.aspx?direct=true&amp;db=ehh&amp;AN=57715544&amp;site=ehost-live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Walther-Thomas, C. (1997). Co-Teaching Experiences: The Benefits and Problems that Teachers and Principals Report Over Time. </a:t>
            </a:r>
            <a:r>
              <a:rPr b="0" i="1" lang="en-US" sz="1200" spc="-1" strike="noStrike">
                <a:solidFill>
                  <a:srgbClr val="212164"/>
                </a:solidFill>
                <a:latin typeface="Book Antiqua"/>
              </a:rPr>
              <a:t>Journal of Learning Disabilities, 30</a:t>
            </a:r>
            <a:r>
              <a:rPr b="0" lang="en-US" sz="1200" spc="-1" strike="noStrike">
                <a:solidFill>
                  <a:srgbClr val="212164"/>
                </a:solidFill>
                <a:latin typeface="Book Antiqua"/>
              </a:rPr>
              <a:t>(4), 395-407. Retrieved from http://web.ebscohost.com.ez-proxy.brooklyn.cuny.edu:2048/ehost/detail?vid=3&amp;hid=24&amp;sid=6df39f1e-173f-464c-b34a-fc6da9d5ce63%40sessionmgr14&amp;bdata=JnNpdGU9ZWhvc3QtbGl2ZQ%3d%3d#db=ehh&amp;AN=9707134012</a:t>
            </a: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9:19:12Z</dcterms:created>
  <dc:creator>Office 2004 Test Drive User</dc:creator>
  <dc:description/>
  <dc:language>en-US</dc:language>
  <cp:lastModifiedBy>Office 2004 Test Drive User</cp:lastModifiedBy>
  <dcterms:modified xsi:type="dcterms:W3CDTF">2011-10-18T03:49:39Z</dcterms:modified>
  <cp:revision>4</cp:revision>
  <dc:subject/>
  <dc:title>Class Size and Its Effect on Academic Acheivement   Maria O’Regan Edu 7201, Fall 2011</dc:title>
</cp:coreProperties>
</file>